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9C1-53FA-42FE-90FD-50DDC0DC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8BA-F310-45FC-A4B0-D60D24D7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811-4B14-4F57-9966-9DFA4786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930-9D2D-4B14-927D-5DB85415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2BA-08D4-402C-BBD7-3E10D93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72A-B499-4FDE-96AA-812E378D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B29-EB8D-43DE-A77D-CEDA2C51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158-C936-4C0A-8BC6-D490005D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1A8-66B2-452C-9F6E-C83E189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FEE-B689-4F77-A35F-C9C6796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B53-136F-41CF-88DA-88B8DBC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CB2-43A3-485C-A887-DC668F9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F67B-9754-41DB-8A3E-FAA1A5DB5E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onologia.leonardo.it/storia/anno030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sialatina.it/_ns/MetrGls/TrimJamb.htm" TargetMode="External"/><Relationship Id="rId2" Type="http://schemas.openxmlformats.org/officeDocument/2006/relationships/hyperlink" Target="http://it.wikipedia.org/wiki/Niccol&#242;_Perotti" TargetMode="External"/><Relationship Id="rId3" Type="http://schemas.openxmlformats.org/officeDocument/2006/relationships/hyperlink" Target="http://www.treccani.it/enciclopedia/esopo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3300"/>
                </a:solidFill>
                <a:latin typeface="Times New Roman"/>
              </a:rPr>
              <a:t>FEDRO E LA FAVOLA</a:t>
            </a:r>
            <a:br>
              <a:rPr sz="3600"/>
            </a:br>
            <a:r>
              <a:rPr b="1" lang="it-IT" sz="1400" spc="-1" strike="noStrike">
                <a:solidFill>
                  <a:srgbClr val="cc3300"/>
                </a:solidFill>
                <a:latin typeface="Times New Roman"/>
              </a:rPr>
              <a:t>(presentazione a cura di Tarcisio Murato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907920"/>
            <a:ext cx="889308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Nacque durante il principato di Augusto (15 a.C.?), ma fu attivo sotto Tiberio, Caligola e Claudi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cc3300"/>
                </a:solidFill>
                <a:latin typeface="Times New Roman"/>
              </a:rPr>
              <a:t>era uno schiavo di origine tracia o macedone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nei manoscritti delle sue opere è citato come liberto di Augusto (egli stesso si definisce </a:t>
            </a:r>
            <a:r>
              <a:rPr b="1" i="1" lang="it-IT" sz="3000" spc="-1" strike="noStrike">
                <a:solidFill>
                  <a:srgbClr val="3333cc"/>
                </a:solidFill>
                <a:latin typeface="Times New Roman"/>
              </a:rPr>
              <a:t>Augusti libertus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cc3300"/>
                </a:solidFill>
                <a:latin typeface="Times New Roman"/>
              </a:rPr>
              <a:t>sarebbe stato perseguitato da </a:t>
            </a:r>
            <a:r>
              <a:rPr b="0" lang="it-IT" sz="3000" spc="-1" strike="noStrike" u="sng">
                <a:solidFill>
                  <a:srgbClr val="bf0000"/>
                </a:solidFill>
                <a:uFillTx/>
                <a:latin typeface="Times New Roman"/>
                <a:hlinkClick r:id="rId1"/>
              </a:rPr>
              <a:t>Seiano</a:t>
            </a:r>
            <a:r>
              <a:rPr b="1" lang="it-IT" sz="3000" spc="-1" strike="noStrike">
                <a:solidFill>
                  <a:srgbClr val="cc3300"/>
                </a:solidFill>
                <a:latin typeface="Times New Roman"/>
              </a:rPr>
              <a:t>, braccio destro di Tiberio, rimasto offeso da allusioni in alcuni scritt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ignorato da Seneca e dai contemporane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8172360" y="260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90000"/>
                </a:solidFill>
                <a:latin typeface="Times New Roman"/>
              </a:rPr>
              <a:t>LE FAV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24000" y="1125360"/>
            <a:ext cx="85089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Ci sono pervenute 93 "Favole" divise in 5 libri, tutte in senari giambici (</a:t>
            </a:r>
            <a:r>
              <a:rPr b="0" lang="it-IT" sz="2400" spc="-1" strike="noStrike" u="sng">
                <a:solidFill>
                  <a:srgbClr val="bf0000"/>
                </a:solidFill>
                <a:uFillTx/>
                <a:latin typeface="Times New Roman"/>
                <a:hlinkClick r:id="rId1"/>
              </a:rPr>
              <a:t>trimetri giambici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Sono sicuramente sue anche le 32 favole raccolte nella cosiddetta "Appendix Perottina” (dall’umanista </a:t>
            </a:r>
            <a:r>
              <a:rPr b="0" lang="it-IT" sz="2400" spc="-1" strike="noStrike" u="sng">
                <a:solidFill>
                  <a:srgbClr val="bf0000"/>
                </a:solidFill>
                <a:uFillTx/>
                <a:latin typeface="Times New Roman"/>
                <a:hlinkClick r:id="rId2"/>
              </a:rPr>
              <a:t>Niccolò Perotti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, scopritore di queste favole e curatore della raccol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24000" y="3357720"/>
            <a:ext cx="851508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Modello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: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bf0000"/>
                </a:solidFill>
                <a:uFillTx/>
                <a:latin typeface="Comic Sans MS"/>
                <a:hlinkClick r:id="rId3"/>
              </a:rPr>
              <a:t>Esopo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(VI sec. A. C.): brevi racconti in prosa con significato pedagogico e morale. Proponevano modelli di comportamento; esemplificavano massime e proverbi; esprimevano una saggezza tipicamente popolare, non senza spunti di critica sociale e protesta degli umili. Avevano per protagonisti generalmente degli anima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a raccolta pervenutaci (</a:t>
            </a:r>
            <a:r>
              <a:rPr b="0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irca 500 favole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) è di epoca imperiale, posteriore a Fed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>
            <a:hlinkClick r:id="" action="ppaction://hlinkshowjump?jump=previousslide"/>
          </p:cNvPr>
          <p:cNvSpPr/>
          <p:nvPr/>
        </p:nvSpPr>
        <p:spPr>
          <a:xfrm>
            <a:off x="324000" y="26028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10800"/>
                </a:moveTo>
                <a:lnTo>
                  <a:pt x="18250" y="3794"/>
                </a:lnTo>
                <a:lnTo>
                  <a:pt x="1825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>
            <a:hlinkClick r:id="" action="ppaction://hlinkshowjump?jump=nextslide"/>
          </p:cNvPr>
          <p:cNvSpPr/>
          <p:nvPr/>
        </p:nvSpPr>
        <p:spPr>
          <a:xfrm>
            <a:off x="8028000" y="260280"/>
            <a:ext cx="790560" cy="79236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49">
                <a:moveTo>
                  <a:pt x="0" y="0"/>
                </a:moveTo>
                <a:lnTo>
                  <a:pt x="21600" y="0"/>
                </a:lnTo>
                <a:lnTo>
                  <a:pt x="21600" y="21649"/>
                </a:lnTo>
                <a:lnTo>
                  <a:pt x="0" y="21649"/>
                </a:lnTo>
                <a:close/>
              </a:path>
              <a:path fill="lightenLess" w="21600" h="216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9">
                <a:moveTo>
                  <a:pt x="21600" y="0"/>
                </a:moveTo>
                <a:lnTo>
                  <a:pt x="21600" y="21649"/>
                </a:lnTo>
                <a:lnTo>
                  <a:pt x="20200" y="20249"/>
                </a:lnTo>
                <a:lnTo>
                  <a:pt x="20200" y="1400"/>
                </a:lnTo>
                <a:close/>
              </a:path>
              <a:path fill="darkenLess" w="21600" h="21649">
                <a:moveTo>
                  <a:pt x="21600" y="21649"/>
                </a:moveTo>
                <a:lnTo>
                  <a:pt x="0" y="21649"/>
                </a:lnTo>
                <a:lnTo>
                  <a:pt x="1400" y="20249"/>
                </a:lnTo>
                <a:lnTo>
                  <a:pt x="20200" y="20249"/>
                </a:lnTo>
                <a:close/>
              </a:path>
              <a:path fill="lighten" w="21600" h="21649">
                <a:moveTo>
                  <a:pt x="0" y="216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9"/>
                </a:lnTo>
                <a:close/>
              </a:path>
              <a:path fill="darken" w="21600" h="21649">
                <a:moveTo>
                  <a:pt x="3794" y="3818"/>
                </a:moveTo>
                <a:lnTo>
                  <a:pt x="17806" y="10825"/>
                </a:lnTo>
                <a:lnTo>
                  <a:pt x="3794" y="1783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recedenti greci e lati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914400"/>
            <a:ext cx="87631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Per le favole in poesi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660033"/>
                </a:solidFill>
                <a:latin typeface="Times New Roman"/>
              </a:rPr>
              <a:t>spunti in </a:t>
            </a:r>
            <a:r>
              <a:rPr b="0" lang="it-IT" sz="3200" spc="-1" strike="noStrike" u="sng">
                <a:solidFill>
                  <a:srgbClr val="660033"/>
                </a:solidFill>
                <a:uFillTx/>
                <a:latin typeface="Times New Roman"/>
              </a:rPr>
              <a:t>Archiloco di Paro</a:t>
            </a:r>
            <a:r>
              <a:rPr b="0" lang="it-IT" sz="3200" spc="-1" strike="noStrike">
                <a:solidFill>
                  <a:srgbClr val="660033"/>
                </a:solidFill>
                <a:latin typeface="Times New Roman"/>
              </a:rPr>
              <a:t> (VII sec. a.C.) e in </a:t>
            </a:r>
            <a:r>
              <a:rPr b="0" lang="it-IT" sz="3200" spc="-1" strike="noStrike" u="sng">
                <a:solidFill>
                  <a:srgbClr val="660033"/>
                </a:solidFill>
                <a:uFillTx/>
                <a:latin typeface="Times New Roman"/>
              </a:rPr>
              <a:t>Esiodo di Ascra</a:t>
            </a:r>
            <a:r>
              <a:rPr b="0" lang="it-IT" sz="3200" spc="-1" strike="noStrike">
                <a:solidFill>
                  <a:srgbClr val="660033"/>
                </a:solidFill>
                <a:latin typeface="Times New Roman"/>
              </a:rPr>
              <a:t> (VII sec. A. C.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atira roman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663300"/>
                </a:solidFill>
                <a:latin typeface="Times New Roman"/>
              </a:rPr>
              <a:t>Ennio, Lucilio e soprattutto Oraz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(sat.VI del II L.: Topo di campagna e topo di città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Punti di contatto con la commedi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intento di divertire (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risum movere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carattere realistico ed umi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andamento drammatico (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dialoghi in forma 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diretta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>
            <a:hlinkClick r:id="" action="ppaction://hlinkshowjump?jump=previousslide"/>
          </p:cNvPr>
          <p:cNvSpPr/>
          <p:nvPr/>
        </p:nvSpPr>
        <p:spPr>
          <a:xfrm>
            <a:off x="324000" y="189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>
            <a:hlinkClick r:id="" action="ppaction://hlinkshowjump?jump=nextslide"/>
          </p:cNvPr>
          <p:cNvSpPr/>
          <p:nvPr/>
        </p:nvSpPr>
        <p:spPr>
          <a:xfrm>
            <a:off x="7956720" y="189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152280"/>
            <a:ext cx="72723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3333cc"/>
                </a:solidFill>
                <a:uFillTx/>
                <a:latin typeface="Times New Roman"/>
              </a:rPr>
              <a:t>Caratteri della favola di Fed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341360"/>
            <a:ext cx="84582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Times New Roman"/>
              </a:rPr>
              <a:t>Non vuole solo divertire ma anche ammaestrare: </a:t>
            </a:r>
            <a:r>
              <a:rPr b="1" i="1" lang="it-IT" sz="2800" spc="-1" strike="noStrike">
                <a:solidFill>
                  <a:srgbClr val="cc3300"/>
                </a:solidFill>
                <a:latin typeface="Times New Roman"/>
              </a:rPr>
              <a:t>monere</a:t>
            </a:r>
            <a:r>
              <a:rPr b="0" lang="it-IT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criterio della </a:t>
            </a:r>
            <a:r>
              <a:rPr b="1" i="1" lang="it-IT" sz="2800" spc="-1" strike="noStrike">
                <a:solidFill>
                  <a:srgbClr val="333399"/>
                </a:solidFill>
                <a:latin typeface="Times New Roman"/>
              </a:rPr>
              <a:t>brevitas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: non solo per la limitata mole dei suoi libri, ma anche per la concisione e la stringatezza del racconto e dei dialogh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Times New Roman"/>
              </a:rPr>
              <a:t>criterio della </a:t>
            </a:r>
            <a:r>
              <a:rPr b="1" i="1" lang="it-IT" sz="2800" spc="-1" strike="noStrike">
                <a:solidFill>
                  <a:srgbClr val="006600"/>
                </a:solidFill>
                <a:latin typeface="Times New Roman"/>
              </a:rPr>
              <a:t>varietas</a:t>
            </a:r>
            <a:r>
              <a:rPr b="0" lang="it-IT" sz="2800" spc="-1" strike="noStrike">
                <a:solidFill>
                  <a:srgbClr val="006600"/>
                </a:solidFill>
                <a:latin typeface="Times New Roman"/>
              </a:rPr>
              <a:t>: non solo animali, ma spesso altri personagg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Times New Roman"/>
              </a:rPr>
              <a:t>intento emulativo del modello rappresentato da Eso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33"/>
                </a:solidFill>
                <a:latin typeface="Times New Roman"/>
              </a:rPr>
              <a:t>la morale: nella premessa (</a:t>
            </a:r>
            <a:r>
              <a:rPr b="0" i="1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promitio</a:t>
            </a:r>
            <a:r>
              <a:rPr b="0" lang="it-IT" sz="2800" spc="-1" strike="noStrike">
                <a:solidFill>
                  <a:srgbClr val="660033"/>
                </a:solidFill>
                <a:latin typeface="Times New Roman"/>
              </a:rPr>
              <a:t>) e/o nella conclusione (</a:t>
            </a:r>
            <a:r>
              <a:rPr b="0" i="1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epimitio</a:t>
            </a:r>
            <a:r>
              <a:rPr b="0" lang="it-IT" sz="2800" spc="-1" strike="noStrike">
                <a:solidFill>
                  <a:srgbClr val="660033"/>
                </a:solidFill>
                <a:latin typeface="Times New Roman"/>
              </a:rPr>
              <a:t>): </a:t>
            </a:r>
            <a:r>
              <a:rPr b="1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ma sempre esplicita</a:t>
            </a:r>
            <a:r>
              <a:rPr b="0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previousslide"/>
          </p:cNvPr>
          <p:cNvSpPr/>
          <p:nvPr/>
        </p:nvSpPr>
        <p:spPr>
          <a:xfrm>
            <a:off x="250920" y="2602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>
            <a:hlinkClick r:id="" action="ppaction://hlinkshowjump?jump=nextslide"/>
          </p:cNvPr>
          <p:cNvSpPr/>
          <p:nvPr/>
        </p:nvSpPr>
        <p:spPr>
          <a:xfrm>
            <a:off x="8172360" y="2602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 u="sng">
                <a:solidFill>
                  <a:srgbClr val="3333cc"/>
                </a:solidFill>
                <a:uFillTx/>
                <a:latin typeface="Times New Roman"/>
              </a:rPr>
              <a:t>Quale visione della vi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0920" y="923760"/>
            <a:ext cx="8569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Esprime il punto di vista  dei ceti subalterni, dei poveri, degli esclusi dal potere: in breve, dei </a:t>
            </a:r>
            <a:r>
              <a:rPr b="1" lang="it-IT" sz="2400" spc="-1" strike="noStrike" u="sng">
                <a:solidFill>
                  <a:srgbClr val="006666"/>
                </a:solidFill>
                <a:uFillTx/>
                <a:latin typeface="Times New Roman"/>
              </a:rPr>
              <a:t>deboli</a:t>
            </a: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Il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ton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 però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non è aggressiv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e satiric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, ma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moralistic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: contro i difetti e gli errori umani, non tanto contro specifici personag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Visione della vita: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amara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pessimistica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, rassegnata perché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conscia della legge del più forte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(del pote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Mette in ridicolo non solo l’arroganza dei forti, ma anche l’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ingenuità</a:t>
            </a: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 e la 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stoltezza</a:t>
            </a: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 di chi non sa adeguarsi a queste spietate leggi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6600"/>
                </a:solidFill>
                <a:latin typeface="Times New Roman"/>
              </a:rPr>
              <a:t>Morale piuttosto angusta e rinunciataria</a:t>
            </a:r>
            <a:r>
              <a:rPr b="0" lang="it-IT" sz="2400" spc="-1" strike="noStrike">
                <a:solidFill>
                  <a:srgbClr val="006600"/>
                </a:solidFill>
                <a:latin typeface="Times New Roman"/>
              </a:rPr>
              <a:t> (quella dell’asino): deplora il male, ma lo ritiene inevit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cc3300"/>
                </a:solidFill>
                <a:latin typeface="Times New Roman"/>
              </a:rPr>
              <a:t>Importante lo 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spunto sul valore incalcolabile della libertà</a:t>
            </a:r>
            <a:r>
              <a:rPr b="0" lang="it-IT" sz="2400" spc="-1" strike="noStrike">
                <a:solidFill>
                  <a:srgbClr val="cc3300"/>
                </a:solidFill>
                <a:latin typeface="Times New Roman"/>
              </a:rPr>
              <a:t>: bene più prezioso di ogni vantaggio mater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>
            <a:hlinkClick r:id="" action="ppaction://hlinkshowjump?jump=previousslide"/>
          </p:cNvPr>
          <p:cNvSpPr/>
          <p:nvPr/>
        </p:nvSpPr>
        <p:spPr>
          <a:xfrm>
            <a:off x="324000" y="189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">
            <a:hlinkClick r:id="" action="ppaction://hlinkshowjump?jump=firstslide"/>
          </p:cNvPr>
          <p:cNvSpPr/>
          <p:nvPr/>
        </p:nvSpPr>
        <p:spPr>
          <a:xfrm>
            <a:off x="8172360" y="260280"/>
            <a:ext cx="719280" cy="57636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9:21:03Z</dcterms:created>
  <dc:creator>Alessandro Cacciotti</dc:creator>
  <dc:description/>
  <dc:language>en-US</dc:language>
  <cp:lastModifiedBy>mason</cp:lastModifiedBy>
  <dcterms:modified xsi:type="dcterms:W3CDTF">2016-09-13T12:38:53Z</dcterms:modified>
  <cp:revision>36</cp:revision>
  <dc:subject/>
  <dc:title>FEDRO</dc:title>
</cp:coreProperties>
</file>